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8503-E897-42D3-91AF-72E232587B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C4D5-1324-4F43-8F52-7F52E181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303A-1A5B-4622-AD86-0F4F6E93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6CF7-5C43-45B0-B1DE-82EEE1C94C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6FF1-5179-4F38-A18F-AF75EF6F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581F-F8A3-4AB3-BF6B-1F729666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0E42-1632-48F5-8775-24BE5334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73B4-40C6-4460-BD0C-32E89816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1D3E7-1555-486E-BDD9-6A1C8E94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D636-268E-4E95-8320-8F9DE19E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FC05-6A37-4B7D-B060-EFDE41B7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26D9-9712-4C6F-81D1-5F4CE303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7357-76DA-464A-80A0-3F60C5B64C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51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姚立新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55640" y="256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功能的评定：可采用颈椎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he neck disability index, ND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评定颈椎的功能情况；或按不同临床类型，采用神经根型颈椎病症状测评量表、椎动脉型颈椎病功能评定量表、脊髓型颈椎病功能障碍评定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JO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来评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纠正不良姿势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电脑操作时的正确姿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4249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763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非甾体类消炎止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甘露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肌松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善血液循环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方式：常用枕颌吊带牵引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角度：一般按病变部位而定。如病变主要在上颈段，牵引角度宜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如病变主要在下颈段，牵引角度应稍前倾，可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之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重量：间歇牵引以自身体重的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持续牵引初始重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以后逐渐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时间：间歇牵引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连续牵引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物理治疗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消除神经根及周围软组织的炎症、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脊髓、神经根及颈部的血液供应和营养状态，促进神经和肌肉功能的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缓解颈部肌肉痉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方法：直流电离子导入疗法，低、中频电疗法，高频电疗法，磁疗，超声波治疗，蜡疗，激光治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4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推拿疗法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纠正颈椎解剖位置的异常，恢复正常的生理曲度及序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扩大椎间隙和椎间孔，缓解肌肉和血管的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血液循环，增加局部的血液供应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佩戴颈围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限制颈椎过度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减轻头部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维持正常生理曲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定的撑开牵张作用，减轻神经根和椎动脉受压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手法有拔伸牵拉、旋转颈椎、松动棘突横突及椎间关节等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根据患者的病情，选择相应的分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神经根型颈椎病，有缓解颈部肌肉痉挛、僵硬和疼痛的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射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段硬膜外腔注射疗法（采用低浓度的局麻药加皮质激素）适用于神经根型、交感神经型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包括颈椎间盘突出症。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天一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避免诱发因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防止外伤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矫正不良姿势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枕致颈椎侧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选择合适的枕头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低枕致颈椎侧弯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枕高合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76760" cy="148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085760" y="4397400"/>
            <a:ext cx="2819520" cy="148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4500720" y="4336920"/>
            <a:ext cx="3476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颈椎病的定义和临床分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颈部功能障碍的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颈椎病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116000" y="155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青少年颈椎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病保健操（见下图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258920" y="2535120"/>
            <a:ext cx="71294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58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病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ervical spondylos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是由于颈椎间盘退行性改变及其继发性椎体、椎间关节、韧带、肌肉、筋膜等退行性改变而导致神经根、椎动脉、交感神经、脊髓受累引起的一系列临床综合症状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64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型：颈项强直、疼痛，可发展到整个颈肩背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神经根型：颈部活动受限，颈肩部疼痛，或伴上肢放射性疼痛或麻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脊髓型：颈肩痛伴有四肢麻木、肌力减弱，严重者可发展至瘫痪、二便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26920" y="2276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椎动脉型：发作性眩晕、头痛，伴恶心、耳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交感神经型：头痛、视物模糊、眼窝胀痛、心慌、心前区疼痛、肢体发凉、多汗或少汗等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829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与麻木：可见颈肩背和上肢的疼痛和麻木，也可出现胸部疼痛、头痛、枕部疼痛与麻木。颈型、神经根型颈椎病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眩晕：是椎动脉型颈椎病的典型表现，特点是起病突然，常于头转动时发生，当改变这个方向时头晕减轻或消失，严重时可出现晕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938160" y="184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运动障碍：主要见于脊髓型颈椎病。表现为上肢无力，不能提取重物，手的精细动作欠灵活；下肢沉乏无力、行走不便，甚至不能行走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力改变：神经根型颈椎病可出现上肢的肌萎缩，手握力减弱，肱二头肌、肱三头肌反射减弱。脊髓型颈椎病表现为下肢的肌力减弱，肌张力增强，膝腱反射、跟腱反射亢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颈椎X1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颈椎X2"/>
          <p:cNvPicPr/>
          <p:nvPr/>
        </p:nvPicPr>
        <p:blipFill>
          <a:blip r:embed="rId2"/>
          <a:stretch/>
        </p:blipFill>
        <p:spPr>
          <a:xfrm>
            <a:off x="4067280" y="2565360"/>
            <a:ext cx="4392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156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visual analog scale, VA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活动范围的评定：采用量角器对颈椎屈曲、伸展、侧屈和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0:07Z</dcterms:modified>
  <cp:revision>4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